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4F9-E27B-489F-957B-1EC5778F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A56-EE99-4430-9BD6-C611624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572-156E-4E89-A258-247A1627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CF3-E5CF-4929-BC94-7C0BD8F0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D8C-0E11-4B97-A5E6-1876BD15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5A7-7008-47E7-AA20-C1876B8B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CAE-8814-4AEF-A867-7C319BC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2D8-DA69-42BC-9C92-CF16CE2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DC7-8E0B-4A1E-A65C-D3096CEF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ED6-8566-41DF-8F0A-A6CF619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E17-2E2B-4216-9887-6C05B7A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8EB-61BB-412D-9A92-B0CC317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C80-E17C-4013-A800-4811C384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bila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 principau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8:06Z</dcterms:modified>
  <cp:revision>13</cp:revision>
  <dc:subject/>
  <dc:title>Présentation PowerPoint</dc:title>
</cp:coreProperties>
</file>